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0F7-EC3A-438B-AFD0-416F77EF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2B9-AEB4-42DB-9AE2-ACCE158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2B4-5E80-4F1C-93EB-2F08700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0A5-1C26-4717-94BA-B6D2B483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37C-7EBE-4D64-8E5E-EE99A56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5D8-47C5-426E-B304-4B9FC2C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F66-F954-4340-AA28-4FD3A9D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F31-CE18-46C3-8523-0C0A1CC1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E5A-4890-46AD-B7C4-D731CAD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65B-9BB9-4A8A-B7B2-E3AFF65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A6F-5F9A-4C2A-BCCD-34A365C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AE6-9D27-4056-8399-95DEA44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72B-50F5-4AB3-BDCD-6114F76E0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1914480" y="228600"/>
            <a:ext cx="7229520" cy="1371600"/>
            <a:chOff x="1914480" y="228600"/>
            <a:chExt cx="7229520" cy="1371600"/>
          </a:xfrm>
        </p:grpSpPr>
        <p:sp>
          <p:nvSpPr>
            <p:cNvPr id="49" name="AutoShape 10"/>
            <p:cNvSpPr/>
            <p:nvPr/>
          </p:nvSpPr>
          <p:spPr>
            <a:xfrm>
              <a:off x="205740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ХИРУРШКА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ЕРАП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2209680" y="2514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адикал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ече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ољ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ој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тход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ицијал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ерап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209680" y="4876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ољ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ступ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убљ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и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(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ра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с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ши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лимина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џепо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конструк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ункционал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натом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чим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могући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птим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слов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нтрол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нтал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лак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752480" y="4419720"/>
            <a:ext cx="7086600" cy="380880"/>
            <a:chOff x="1752480" y="4419720"/>
            <a:chExt cx="7086600" cy="380880"/>
          </a:xfrm>
        </p:grpSpPr>
        <p:sp>
          <p:nvSpPr>
            <p:cNvPr id="54" name="AutoShape 15"/>
            <p:cNvSpPr/>
            <p:nvPr/>
          </p:nvSpPr>
          <p:spPr>
            <a:xfrm>
              <a:off x="1752480" y="4419720"/>
              <a:ext cx="708660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209680" y="4419720"/>
              <a:ext cx="647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Циљ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ових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тервенциј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је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1752480" y="2057400"/>
            <a:ext cx="7086600" cy="380880"/>
            <a:chOff x="1752480" y="2057400"/>
            <a:chExt cx="7086600" cy="380880"/>
          </a:xfrm>
        </p:grpSpPr>
        <p:sp>
          <p:nvSpPr>
            <p:cNvPr id="57" name="AutoShape 18"/>
            <p:cNvSpPr/>
            <p:nvPr/>
          </p:nvSpPr>
          <p:spPr>
            <a:xfrm>
              <a:off x="1752480" y="2057400"/>
              <a:ext cx="708660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2209680" y="2057400"/>
              <a:ext cx="647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ХИРУРШК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ТЕРАПИЈ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-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ПАРОДОНТАЛН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ХИРУРГИЈ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20"/>
          <p:cNvSpPr/>
          <p:nvPr/>
        </p:nvSpPr>
        <p:spPr>
          <a:xfrm>
            <a:off x="2209680" y="32767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дразуме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рш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тервенц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к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врд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и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19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199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СЛОБОДН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МУКОГИНГИВАЛН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УТОТРАНСПЛАНТАТ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(SMAT)</a:t>
              </a:r>
              <a:r>
                <a:rPr b="0" lang="en-GB" sz="2600" spc="-1" strike="noStrike">
                  <a:solidFill>
                    <a:srgbClr val="0000cc"/>
                  </a:solidFill>
                  <a:latin typeface="Arial Narrow"/>
                </a:rPr>
                <a:t> - Bjorna 196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2"/>
          <p:cNvSpPr/>
          <p:nvPr/>
        </p:nvSpPr>
        <p:spPr>
          <a:xfrm>
            <a:off x="1752480" y="25909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твар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ошире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ипојн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Елиминац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онарно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ипоје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френулум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са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,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језик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латерал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лик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лузокож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евенц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ерап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влачењ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екрив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гоље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ен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одубљив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форникс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3"/>
          <p:cNvGrpSpPr/>
          <p:nvPr/>
        </p:nvGrpSpPr>
        <p:grpSpPr>
          <a:xfrm>
            <a:off x="1752480" y="2133720"/>
            <a:ext cx="3810240" cy="380880"/>
            <a:chOff x="1752480" y="2133720"/>
            <a:chExt cx="3810240" cy="380880"/>
          </a:xfrm>
        </p:grpSpPr>
        <p:sp>
          <p:nvSpPr>
            <p:cNvPr id="203" name="AutoShape 14"/>
            <p:cNvSpPr/>
            <p:nvPr/>
          </p:nvSpPr>
          <p:spPr>
            <a:xfrm>
              <a:off x="1752480" y="2133720"/>
              <a:ext cx="381024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1998000" y="2133720"/>
              <a:ext cx="3482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2133720" y="4800600"/>
            <a:ext cx="6019560" cy="1787400"/>
            <a:chOff x="2133720" y="4800600"/>
            <a:chExt cx="6019560" cy="1787400"/>
          </a:xfrm>
        </p:grpSpPr>
        <p:pic>
          <p:nvPicPr>
            <p:cNvPr id="206" name="Picture 17" descr="284"/>
            <p:cNvPicPr/>
            <p:nvPr/>
          </p:nvPicPr>
          <p:blipFill>
            <a:blip r:embed="rId2"/>
            <a:stretch/>
          </p:blipFill>
          <p:spPr>
            <a:xfrm>
              <a:off x="2133720" y="4800600"/>
              <a:ext cx="2851200" cy="17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8" descr="285"/>
            <p:cNvPicPr/>
            <p:nvPr/>
          </p:nvPicPr>
          <p:blipFill>
            <a:blip r:embed="rId3"/>
            <a:stretch/>
          </p:blipFill>
          <p:spPr>
            <a:xfrm>
              <a:off x="5334120" y="4800600"/>
              <a:ext cx="2819160" cy="178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10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1752480" y="3352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ршк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хват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тпун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клањај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увиш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онар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серира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ренулум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са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зик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атерал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лик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лузокож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17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ФРЕНЕКТОМ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3" descr="656 657 658"/>
          <p:cNvPicPr/>
          <p:nvPr/>
        </p:nvPicPr>
        <p:blipFill>
          <a:blip r:embed="rId2"/>
          <a:stretch/>
        </p:blipFill>
        <p:spPr>
          <a:xfrm>
            <a:off x="5527800" y="2133720"/>
            <a:ext cx="3225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21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22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9"/>
          <p:cNvSpPr/>
          <p:nvPr/>
        </p:nvSpPr>
        <p:spPr>
          <a:xfrm>
            <a:off x="1676520" y="2895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27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мењу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дубљива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стибулу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7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нас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д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7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линичкој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акс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сте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е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одификац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тод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29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EDLAN-MEJCHAROVA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ОПЕРАЦ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13" descr="674 675 676"/>
          <p:cNvPicPr/>
          <p:nvPr/>
        </p:nvPicPr>
        <p:blipFill>
          <a:blip r:embed="rId2"/>
          <a:stretch/>
        </p:blipFill>
        <p:spPr>
          <a:xfrm>
            <a:off x="6554880" y="1905120"/>
            <a:ext cx="2284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33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34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9"/>
          <p:cNvSpPr/>
          <p:nvPr/>
        </p:nvSpPr>
        <p:spPr>
          <a:xfrm>
            <a:off x="2209680" y="19051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фил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иректн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нос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убљ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и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нос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руктур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ољ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вод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сорпц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рхитектур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зициони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пикалн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нос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сективн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ргиј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клањај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фек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реи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зв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"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зиолошк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”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рхитекту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лвеолар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пикалније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иво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0"/>
          <p:cNvGrpSpPr/>
          <p:nvPr/>
        </p:nvGrpSpPr>
        <p:grpSpPr>
          <a:xfrm>
            <a:off x="1752480" y="4952880"/>
            <a:ext cx="7086600" cy="380880"/>
            <a:chOff x="1752480" y="4952880"/>
            <a:chExt cx="7086600" cy="380880"/>
          </a:xfrm>
        </p:grpSpPr>
        <p:sp>
          <p:nvSpPr>
            <p:cNvPr id="241" name="AutoShape 11"/>
            <p:cNvSpPr/>
            <p:nvPr/>
          </p:nvSpPr>
          <p:spPr>
            <a:xfrm>
              <a:off x="1752480" y="4952880"/>
              <a:ext cx="708660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209680" y="4952880"/>
              <a:ext cx="647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3"/>
          <p:cNvSpPr/>
          <p:nvPr/>
        </p:nvSpPr>
        <p:spPr>
          <a:xfrm>
            <a:off x="2209680" y="54100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моделира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лимина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рате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гао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фекат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конструк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зиолошк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ф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4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45" name="AutoShape 15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СЕКТИВН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ШТАН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ХИРУРГ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48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49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9"/>
          <p:cNvSpPr/>
          <p:nvPr/>
        </p:nvSpPr>
        <p:spPr>
          <a:xfrm>
            <a:off x="1905120" y="21337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Циљ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ехни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моделира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ез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тклања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циље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стиза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зиолош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орм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56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1914480" y="380880"/>
              <a:ext cx="677232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ОСТЕОПЛАСТИКА</a:t>
              </a:r>
              <a:br>
                <a:rPr sz="3000"/>
              </a:br>
              <a:r>
                <a:rPr b="0" lang="en-GB" sz="2600" spc="-1" strike="noStrike">
                  <a:solidFill>
                    <a:srgbClr val="0000cc"/>
                  </a:solidFill>
                  <a:latin typeface="Arial Narrow"/>
                </a:rPr>
                <a:t>Fridman 195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3" descr="492"/>
          <p:cNvPicPr/>
          <p:nvPr/>
        </p:nvPicPr>
        <p:blipFill>
          <a:blip r:embed="rId2"/>
          <a:stretch/>
        </p:blipFill>
        <p:spPr>
          <a:xfrm>
            <a:off x="2286000" y="3535200"/>
            <a:ext cx="6095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60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61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5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9"/>
          <p:cNvSpPr/>
          <p:nvPr/>
        </p:nvSpPr>
        <p:spPr>
          <a:xfrm>
            <a:off x="1905120" y="21337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ерми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дразуме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клања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тпор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би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зиолошк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фил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реб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дикова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д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суст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рате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фекат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ич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ткла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стибулар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р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494"/>
          <p:cNvPicPr/>
          <p:nvPr/>
        </p:nvPicPr>
        <p:blipFill>
          <a:blip r:embed="rId2"/>
          <a:stretch/>
        </p:blipFill>
        <p:spPr>
          <a:xfrm>
            <a:off x="2286000" y="3809880"/>
            <a:ext cx="6019920" cy="25988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1"/>
          <p:cNvGrpSpPr/>
          <p:nvPr/>
        </p:nvGrpSpPr>
        <p:grpSpPr>
          <a:xfrm>
            <a:off x="2057400" y="0"/>
            <a:ext cx="7086600" cy="1371600"/>
            <a:chOff x="2057400" y="0"/>
            <a:chExt cx="7086600" cy="1371600"/>
          </a:xfrm>
        </p:grpSpPr>
        <p:sp>
          <p:nvSpPr>
            <p:cNvPr id="269" name="AutoShape 12"/>
            <p:cNvSpPr/>
            <p:nvPr/>
          </p:nvSpPr>
          <p:spPr>
            <a:xfrm>
              <a:off x="2057400" y="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2219400" y="3808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ОСТЕОКТОМ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7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7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1752480" y="186696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275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колик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толошк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цес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мпромиту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уркација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шк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етма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ложе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75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лиминиса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џеп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чест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треб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натомск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одификова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лиминиса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дн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иш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о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80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СЕКЦИЈ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ЗУБ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3"/>
          <p:cNvSpPr/>
          <p:nvPr/>
        </p:nvSpPr>
        <p:spPr>
          <a:xfrm>
            <a:off x="1752480" y="41911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бављ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д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молар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главно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доњ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ви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ахвато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дразумев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парац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аксијално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мер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ати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екстрахир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лови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рун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ен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)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чиј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цију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разорен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есеченој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ловин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сл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ендодонтског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ретма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ав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отетск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нструкц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1752480" y="3657600"/>
            <a:ext cx="4876560" cy="474840"/>
            <a:chOff x="1752480" y="3657600"/>
            <a:chExt cx="4876560" cy="474840"/>
          </a:xfrm>
        </p:grpSpPr>
        <p:sp>
          <p:nvSpPr>
            <p:cNvPr id="284" name="AutoShape 15"/>
            <p:cNvSpPr/>
            <p:nvPr/>
          </p:nvSpPr>
          <p:spPr>
            <a:xfrm>
              <a:off x="1752480" y="365760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1860840" y="3657600"/>
              <a:ext cx="4659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A)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ХЕМИСЕКЦИЈ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ЗУБА</a:t>
              </a:r>
              <a:r>
                <a:rPr b="0" lang="en-GB" sz="25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7"/>
          <p:cNvGrpSpPr/>
          <p:nvPr/>
        </p:nvGrpSpPr>
        <p:grpSpPr>
          <a:xfrm>
            <a:off x="6702480" y="3657600"/>
            <a:ext cx="2111400" cy="3090960"/>
            <a:chOff x="6702480" y="3657600"/>
            <a:chExt cx="2111400" cy="3090960"/>
          </a:xfrm>
        </p:grpSpPr>
        <p:pic>
          <p:nvPicPr>
            <p:cNvPr id="287" name="Picture 18" descr="211"/>
            <p:cNvPicPr/>
            <p:nvPr/>
          </p:nvPicPr>
          <p:blipFill>
            <a:blip r:embed="rId2"/>
            <a:stretch/>
          </p:blipFill>
          <p:spPr>
            <a:xfrm>
              <a:off x="6702480" y="3657600"/>
              <a:ext cx="211140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9" descr="212dalije"/>
            <p:cNvPicPr/>
            <p:nvPr/>
          </p:nvPicPr>
          <p:blipFill>
            <a:blip r:embed="rId3"/>
            <a:stretch/>
          </p:blipFill>
          <p:spPr>
            <a:xfrm>
              <a:off x="6705720" y="5257800"/>
              <a:ext cx="2093760" cy="14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290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291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5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297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СЕКЦИЈ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ЗУБ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2"/>
          <p:cNvSpPr/>
          <p:nvPr/>
        </p:nvSpPr>
        <p:spPr>
          <a:xfrm>
            <a:off x="1828800" y="243828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95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хируршк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цедур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ој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д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олар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ав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в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емолар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здвајањем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могућав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ступ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уркациј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радикациј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родонт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џеп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ндикова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к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вољн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чуван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родонцијум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к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б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носн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к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зар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ахватил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ам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онарн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уркаци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кон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ндодонтск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лечењ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исекциј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реб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тетск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бринут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здвојен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ловин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"/>
          <p:cNvGrpSpPr/>
          <p:nvPr/>
        </p:nvGrpSpPr>
        <p:grpSpPr>
          <a:xfrm>
            <a:off x="1752480" y="1905120"/>
            <a:ext cx="4876560" cy="459720"/>
            <a:chOff x="1752480" y="1905120"/>
            <a:chExt cx="4876560" cy="459720"/>
          </a:xfrm>
        </p:grpSpPr>
        <p:sp>
          <p:nvSpPr>
            <p:cNvPr id="301" name="AutoShape 14"/>
            <p:cNvSpPr/>
            <p:nvPr/>
          </p:nvSpPr>
          <p:spPr>
            <a:xfrm>
              <a:off x="1752480" y="190512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1860840" y="190512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B)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БИСЕКЦИЈ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ЗУБ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6"/>
          <p:cNvGrpSpPr/>
          <p:nvPr/>
        </p:nvGrpSpPr>
        <p:grpSpPr>
          <a:xfrm>
            <a:off x="5791320" y="2666880"/>
            <a:ext cx="3267000" cy="3886200"/>
            <a:chOff x="5791320" y="2666880"/>
            <a:chExt cx="3267000" cy="3886200"/>
          </a:xfrm>
        </p:grpSpPr>
        <p:pic>
          <p:nvPicPr>
            <p:cNvPr id="304" name="Picture 17" descr="614 615 617 618"/>
            <p:cNvPicPr/>
            <p:nvPr/>
          </p:nvPicPr>
          <p:blipFill>
            <a:blip r:embed="rId2"/>
            <a:stretch/>
          </p:blipFill>
          <p:spPr>
            <a:xfrm>
              <a:off x="5791320" y="3978360"/>
              <a:ext cx="3267000" cy="25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8" descr="613"/>
            <p:cNvPicPr/>
            <p:nvPr/>
          </p:nvPicPr>
          <p:blipFill>
            <a:blip r:embed="rId3"/>
            <a:stretch/>
          </p:blipFill>
          <p:spPr>
            <a:xfrm>
              <a:off x="5791320" y="2666880"/>
              <a:ext cx="1641600" cy="128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307" name="AutoShape 3"/>
            <p:cNvSpPr/>
            <p:nvPr/>
          </p:nvSpPr>
          <p:spPr>
            <a:xfrm>
              <a:off x="1447920" y="0"/>
              <a:ext cx="7696080" cy="6858000"/>
            </a:xfrm>
            <a:prstGeom prst="bevel">
              <a:avLst>
                <a:gd name="adj" fmla="val 74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4"/>
            <p:cNvSpPr/>
            <p:nvPr/>
          </p:nvSpPr>
          <p:spPr>
            <a:xfrm>
              <a:off x="0" y="0"/>
              <a:ext cx="1447920" cy="1828800"/>
            </a:xfrm>
            <a:prstGeom prst="bevel">
              <a:avLst>
                <a:gd name="adj" fmla="val 2977"/>
              </a:avLst>
            </a:prstGeom>
            <a:solidFill>
              <a:srgbClr val="b4d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"/>
            <p:cNvSpPr/>
            <p:nvPr/>
          </p:nvSpPr>
          <p:spPr>
            <a:xfrm>
              <a:off x="0" y="1828800"/>
              <a:ext cx="1447920" cy="503244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6" descr="dentist"/>
            <p:cNvPicPr/>
            <p:nvPr/>
          </p:nvPicPr>
          <p:blipFill>
            <a:blip r:embed="rId1"/>
            <a:stretch/>
          </p:blipFill>
          <p:spPr>
            <a:xfrm>
              <a:off x="228600" y="76320"/>
              <a:ext cx="100980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Rectangle 7"/>
          <p:cNvSpPr/>
          <p:nvPr/>
        </p:nvSpPr>
        <p:spPr>
          <a:xfrm>
            <a:off x="1752480" y="9907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д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ампутацијом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дразумев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одсецање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једног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корена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вишекореног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зуба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око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кога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је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пародонцијум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008080"/>
                </a:solidFill>
                <a:latin typeface="Arial Narrow"/>
              </a:rPr>
              <a:t>разорен</a:t>
            </a:r>
            <a:r>
              <a:rPr b="0" lang="en-GB" sz="2100" spc="-1" strike="noStrike">
                <a:solidFill>
                  <a:srgbClr val="008080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8"/>
          <p:cNvGrpSpPr/>
          <p:nvPr/>
        </p:nvGrpSpPr>
        <p:grpSpPr>
          <a:xfrm>
            <a:off x="1752480" y="533520"/>
            <a:ext cx="4876560" cy="459720"/>
            <a:chOff x="1752480" y="533520"/>
            <a:chExt cx="4876560" cy="459720"/>
          </a:xfrm>
        </p:grpSpPr>
        <p:sp>
          <p:nvSpPr>
            <p:cNvPr id="313" name="AutoShape 9"/>
            <p:cNvSpPr/>
            <p:nvPr/>
          </p:nvSpPr>
          <p:spPr>
            <a:xfrm>
              <a:off x="1752480" y="53352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860840" y="53352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C)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АМПУТАЦИЈ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ЗУБ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1752480" y="1905120"/>
            <a:ext cx="4038840" cy="380880"/>
            <a:chOff x="1752480" y="1905120"/>
            <a:chExt cx="4038840" cy="380880"/>
          </a:xfrm>
        </p:grpSpPr>
        <p:sp>
          <p:nvSpPr>
            <p:cNvPr id="316" name="AutoShape 12"/>
            <p:cNvSpPr/>
            <p:nvPr/>
          </p:nvSpPr>
          <p:spPr>
            <a:xfrm>
              <a:off x="1752480" y="1905120"/>
              <a:ext cx="403884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3"/>
            <p:cNvSpPr/>
            <p:nvPr/>
          </p:nvSpPr>
          <p:spPr>
            <a:xfrm>
              <a:off x="2012760" y="1905120"/>
              <a:ext cx="3691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4"/>
          <p:cNvSpPr/>
          <p:nvPr/>
        </p:nvSpPr>
        <p:spPr>
          <a:xfrm>
            <a:off x="1752480" y="2246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клањ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ст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зиј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њих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олар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клањ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латин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чув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зио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стовестибулар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орњих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олар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клањ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зиовестибулар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чув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стовестибулар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латин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клањ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стовестибулар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чување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зиовестибулар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латиналног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6934320" y="2403360"/>
            <a:ext cx="2133360" cy="3119400"/>
            <a:chOff x="6934320" y="2403360"/>
            <a:chExt cx="2133360" cy="3119400"/>
          </a:xfrm>
        </p:grpSpPr>
        <p:pic>
          <p:nvPicPr>
            <p:cNvPr id="320" name="Picture 16" descr="601"/>
            <p:cNvPicPr/>
            <p:nvPr/>
          </p:nvPicPr>
          <p:blipFill>
            <a:blip r:embed="rId2"/>
            <a:stretch/>
          </p:blipFill>
          <p:spPr>
            <a:xfrm>
              <a:off x="6934320" y="2403360"/>
              <a:ext cx="2133360" cy="15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7" descr="604"/>
            <p:cNvPicPr/>
            <p:nvPr/>
          </p:nvPicPr>
          <p:blipFill>
            <a:blip r:embed="rId3"/>
            <a:stretch/>
          </p:blipFill>
          <p:spPr>
            <a:xfrm>
              <a:off x="6934320" y="3990960"/>
              <a:ext cx="1391400" cy="15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18"/>
          <p:cNvSpPr/>
          <p:nvPr/>
        </p:nvSpPr>
        <p:spPr>
          <a:xfrm>
            <a:off x="1220760" y="1820880"/>
            <a:ext cx="7924680" cy="7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752480" y="6095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исти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дстањењу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талног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џепа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ада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цијум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олико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разорен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не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може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пстати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вилици</a:t>
            </a: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0"/>
          <p:cNvGrpSpPr/>
          <p:nvPr/>
        </p:nvGrpSpPr>
        <p:grpSpPr>
          <a:xfrm>
            <a:off x="1752480" y="5638680"/>
            <a:ext cx="4876560" cy="459720"/>
            <a:chOff x="1752480" y="5638680"/>
            <a:chExt cx="4876560" cy="459720"/>
          </a:xfrm>
        </p:grpSpPr>
        <p:sp>
          <p:nvSpPr>
            <p:cNvPr id="325" name="AutoShape 21"/>
            <p:cNvSpPr/>
            <p:nvPr/>
          </p:nvSpPr>
          <p:spPr>
            <a:xfrm>
              <a:off x="1752480" y="56386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2"/>
            <p:cNvSpPr/>
            <p:nvPr/>
          </p:nvSpPr>
          <p:spPr>
            <a:xfrm>
              <a:off x="1860840" y="563868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D)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ЕКСТРАКЦИЈА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ЗУБА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328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329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9"/>
          <p:cNvSpPr/>
          <p:nvPr/>
        </p:nvSpPr>
        <p:spPr>
          <a:xfrm>
            <a:off x="1981080" y="2362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парациј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унел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дразуме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акв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рад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лвеолар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даптаци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к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дел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уркациј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могућа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муникаци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уколингвалн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авц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роз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де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уркациј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и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езбеђуј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декватн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ржавањ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рал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гије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парациј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унел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”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хте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ндодонтск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кс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тетск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адов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ље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ши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ог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и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хваће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ријес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тод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еб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ади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д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соб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личн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ралн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гијен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иски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ријес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декс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0"/>
          <p:cNvGrpSpPr/>
          <p:nvPr/>
        </p:nvGrpSpPr>
        <p:grpSpPr>
          <a:xfrm>
            <a:off x="1600200" y="304920"/>
            <a:ext cx="7086600" cy="1371600"/>
            <a:chOff x="1600200" y="304920"/>
            <a:chExt cx="7086600" cy="1371600"/>
          </a:xfrm>
        </p:grpSpPr>
        <p:sp>
          <p:nvSpPr>
            <p:cNvPr id="336" name="AutoShape 11"/>
            <p:cNvSpPr/>
            <p:nvPr/>
          </p:nvSpPr>
          <p:spPr>
            <a:xfrm>
              <a:off x="1600200" y="30492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1762200" y="68580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РЕПА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УНЕЛ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-3240"/>
            <a:ext cx="9372600" cy="6861240"/>
            <a:chOff x="0" y="-3240"/>
            <a:chExt cx="9372600" cy="686124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-3240"/>
              <a:ext cx="9144000" cy="6861240"/>
              <a:chOff x="0" y="-3240"/>
              <a:chExt cx="9144000" cy="6861240"/>
            </a:xfrm>
          </p:grpSpPr>
          <p:sp>
            <p:nvSpPr>
              <p:cNvPr id="62" name="AutoShape 4"/>
              <p:cNvSpPr/>
              <p:nvPr/>
            </p:nvSpPr>
            <p:spPr>
              <a:xfrm>
                <a:off x="1447920" y="-324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5"/>
              <p:cNvSpPr/>
              <p:nvPr/>
            </p:nvSpPr>
            <p:spPr>
              <a:xfrm>
                <a:off x="0" y="-324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6"/>
              <p:cNvSpPr/>
              <p:nvPr/>
            </p:nvSpPr>
            <p:spPr>
              <a:xfrm>
                <a:off x="0" y="182556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308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Rectangle 8"/>
            <p:cNvSpPr/>
            <p:nvPr/>
          </p:nvSpPr>
          <p:spPr>
            <a:xfrm>
              <a:off x="1447920" y="181764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68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ОДЕЛ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АРОДОНТАЛНЕ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ХИРУРГИЈ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2"/>
          <p:cNvSpPr/>
          <p:nvPr/>
        </p:nvSpPr>
        <p:spPr>
          <a:xfrm>
            <a:off x="1905120" y="24382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ктом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опла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1752480" y="1981080"/>
            <a:ext cx="4876560" cy="474840"/>
            <a:chOff x="1752480" y="1981080"/>
            <a:chExt cx="4876560" cy="474840"/>
          </a:xfrm>
        </p:grpSpPr>
        <p:sp>
          <p:nvSpPr>
            <p:cNvPr id="72" name="AutoShape 14"/>
            <p:cNvSpPr/>
            <p:nvPr/>
          </p:nvSpPr>
          <p:spPr>
            <a:xfrm>
              <a:off x="1752480" y="19810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1860840" y="1981080"/>
              <a:ext cx="4659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Гингивална</a:t>
              </a:r>
              <a:r>
                <a:rPr b="0" lang="en-GB" sz="25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пародонтална</a:t>
              </a:r>
              <a:r>
                <a:rPr b="0" lang="en-GB" sz="25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хирург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6"/>
          <p:cNvSpPr/>
          <p:nvPr/>
        </p:nvSpPr>
        <p:spPr>
          <a:xfrm>
            <a:off x="1905120" y="3733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лобод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укогингив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утотрансплант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ренектом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Edlan-Mejcharova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пер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7"/>
          <p:cNvGrpSpPr/>
          <p:nvPr/>
        </p:nvGrpSpPr>
        <p:grpSpPr>
          <a:xfrm>
            <a:off x="1752480" y="3276720"/>
            <a:ext cx="8000640" cy="474840"/>
            <a:chOff x="1752480" y="3276720"/>
            <a:chExt cx="8000640" cy="474840"/>
          </a:xfrm>
        </p:grpSpPr>
        <p:sp>
          <p:nvSpPr>
            <p:cNvPr id="76" name="AutoShape 18"/>
            <p:cNvSpPr/>
            <p:nvPr/>
          </p:nvSpPr>
          <p:spPr>
            <a:xfrm>
              <a:off x="1752480" y="3276720"/>
              <a:ext cx="800064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9"/>
            <p:cNvSpPr/>
            <p:nvPr/>
          </p:nvSpPr>
          <p:spPr>
            <a:xfrm>
              <a:off x="1880280" y="3276720"/>
              <a:ext cx="5497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Мукогингивална</a:t>
              </a:r>
              <a:r>
                <a:rPr b="0" lang="en-GB" sz="25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пародонталнахирург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20"/>
          <p:cNvSpPr/>
          <p:nvPr/>
        </p:nvSpPr>
        <p:spPr>
          <a:xfrm>
            <a:off x="1905120" y="56386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секти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дитив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-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м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ансплантат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план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генератив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-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ођ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генера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1752480" y="5181480"/>
            <a:ext cx="4876560" cy="474840"/>
            <a:chOff x="1752480" y="5181480"/>
            <a:chExt cx="4876560" cy="474840"/>
          </a:xfrm>
        </p:grpSpPr>
        <p:sp>
          <p:nvSpPr>
            <p:cNvPr id="80" name="AutoShape 22"/>
            <p:cNvSpPr/>
            <p:nvPr/>
          </p:nvSpPr>
          <p:spPr>
            <a:xfrm>
              <a:off x="1752480" y="51814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3"/>
            <p:cNvSpPr/>
            <p:nvPr/>
          </p:nvSpPr>
          <p:spPr>
            <a:xfrm>
              <a:off x="1860840" y="5181480"/>
              <a:ext cx="4659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Коштана</a:t>
              </a:r>
              <a:r>
                <a:rPr b="0" lang="en-GB" sz="25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пародонтална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CS" sz="2500" spc="-1" strike="noStrike">
                  <a:solidFill>
                    <a:srgbClr val="ffffff"/>
                  </a:solidFill>
                  <a:latin typeface="Arial Narrow"/>
                </a:rPr>
                <a:t>хирург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339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340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3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4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346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ДИ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РИМ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РАНСПЛАНТАТ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СТ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МПЛАНТАТ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2"/>
          <p:cNvSpPr/>
          <p:nvPr/>
        </p:nvSpPr>
        <p:spPr>
          <a:xfrm>
            <a:off x="1752480" y="29718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1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траорал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кстраорал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утотрансплант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омеотрансплант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етеротрансплант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убституенс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ансплант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3"/>
          <p:cNvGrpSpPr/>
          <p:nvPr/>
        </p:nvGrpSpPr>
        <p:grpSpPr>
          <a:xfrm>
            <a:off x="1752480" y="2209680"/>
            <a:ext cx="4876560" cy="459720"/>
            <a:chOff x="1752480" y="2209680"/>
            <a:chExt cx="4876560" cy="459720"/>
          </a:xfrm>
        </p:grpSpPr>
        <p:sp>
          <p:nvSpPr>
            <p:cNvPr id="350" name="AutoShape 14"/>
            <p:cNvSpPr/>
            <p:nvPr/>
          </p:nvSpPr>
          <p:spPr>
            <a:xfrm>
              <a:off x="1752480" y="22096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5"/>
            <p:cNvSpPr/>
            <p:nvPr/>
          </p:nvSpPr>
          <p:spPr>
            <a:xfrm>
              <a:off x="1860840" y="220968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ТРАНСПЛАНТА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16"/>
          <p:cNvSpPr/>
          <p:nvPr/>
        </p:nvSpPr>
        <p:spPr>
          <a:xfrm>
            <a:off x="175248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ансплантати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дај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лик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начај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ој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ргиј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354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355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8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361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ДИ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РИМ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РАНСПЛАНТАТ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СТ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МПЛАНТАТ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12"/>
          <p:cNvSpPr/>
          <p:nvPr/>
        </p:nvSpPr>
        <p:spPr>
          <a:xfrm>
            <a:off x="1752480" y="2590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нас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главно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ст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планта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-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к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омолог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ак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пластич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планта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интетичк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атеријал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мен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докнађу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струиран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стовремен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дуку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ормирањ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ов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штачк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ор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уд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: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иоинерт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мпатибил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колни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и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е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нтиге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утаге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нцероге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тенцијал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лаз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блик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рнац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ранул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редиц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стој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инералн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ол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лцију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осфор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агнезију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луминију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планта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еб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а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стеоиндуктив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стеопромотив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војст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носн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штачк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ста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став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иличн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л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имулиш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варањ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ов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1752480" y="1981080"/>
            <a:ext cx="4876560" cy="459720"/>
            <a:chOff x="1752480" y="1981080"/>
            <a:chExt cx="4876560" cy="459720"/>
          </a:xfrm>
        </p:grpSpPr>
        <p:sp>
          <p:nvSpPr>
            <p:cNvPr id="365" name="AutoShape 14"/>
            <p:cNvSpPr/>
            <p:nvPr/>
          </p:nvSpPr>
          <p:spPr>
            <a:xfrm>
              <a:off x="1752480" y="19810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1860840" y="198108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ИМПЛАНТА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368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369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375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ДИ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РИМ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РАНСПЛАНТАТ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СТ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МПЛАНТАТ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752480" y="1981080"/>
            <a:ext cx="4876560" cy="459720"/>
            <a:chOff x="1752480" y="1981080"/>
            <a:chExt cx="4876560" cy="459720"/>
          </a:xfrm>
        </p:grpSpPr>
        <p:sp>
          <p:nvSpPr>
            <p:cNvPr id="378" name="AutoShape 13"/>
            <p:cNvSpPr/>
            <p:nvPr/>
          </p:nvSpPr>
          <p:spPr>
            <a:xfrm>
              <a:off x="1752480" y="1981080"/>
              <a:ext cx="487656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860840" y="198108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ИМПЛАНТА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5"/>
          <p:cNvSpPr/>
          <p:nvPr/>
        </p:nvSpPr>
        <p:spPr>
          <a:xfrm>
            <a:off x="1752480" y="2590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мај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стеокондуктивн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тенцијал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-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ормирањ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ог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лаз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варањ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аку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спуњен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стеоцитим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4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сец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лаз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варањ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овог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пој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ржишт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стој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лик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број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валитетн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атеријал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ст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пуњавање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фекат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yntograft, Ceros 80, Ceros 82, Periograf, Osprovit, Durapatit, Frialit, Calcitite, Alveograf, Allotropat 50, Interpore 200, Algipore, Biobase,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Bio-oss, AlloGro, Biogran, Pep Gen P-15 kao i domaći preparat Aldov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d novih materijala poznati su: Osteogenin, Amelogenin, Enamelin, Amlein, Endogein. Za usmerenu regeneraciju tkiva dodaju se i faktori rasta kao što je Emdogain sa Pref-gel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4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38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38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389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ДИ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РИМ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РАНСПЛАНТАТ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СТ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МПЛАНТАТ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1752480" y="2971800"/>
            <a:ext cx="4038840" cy="380880"/>
            <a:chOff x="1752480" y="2971800"/>
            <a:chExt cx="4038840" cy="380880"/>
          </a:xfrm>
        </p:grpSpPr>
        <p:sp>
          <p:nvSpPr>
            <p:cNvPr id="392" name="AutoShape 13"/>
            <p:cNvSpPr/>
            <p:nvPr/>
          </p:nvSpPr>
          <p:spPr>
            <a:xfrm>
              <a:off x="1752480" y="2971800"/>
              <a:ext cx="403884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2012760" y="2971800"/>
              <a:ext cx="3691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5"/>
          <p:cNvSpPr/>
          <p:nvPr/>
        </p:nvSpPr>
        <p:spPr>
          <a:xfrm>
            <a:off x="1752480" y="35812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штан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азградњ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ормирањем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фракоштаних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феката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иличној</a:t>
            </a: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ци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рануло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6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6"/>
          <p:cNvGrpSpPr/>
          <p:nvPr/>
        </p:nvGrpSpPr>
        <p:grpSpPr>
          <a:xfrm>
            <a:off x="6303960" y="1984320"/>
            <a:ext cx="2284560" cy="4721400"/>
            <a:chOff x="6303960" y="1984320"/>
            <a:chExt cx="2284560" cy="4721400"/>
          </a:xfrm>
        </p:grpSpPr>
        <p:pic>
          <p:nvPicPr>
            <p:cNvPr id="396" name="Picture 17" descr="521"/>
            <p:cNvPicPr/>
            <p:nvPr/>
          </p:nvPicPr>
          <p:blipFill>
            <a:blip r:embed="rId2"/>
            <a:stretch/>
          </p:blipFill>
          <p:spPr>
            <a:xfrm>
              <a:off x="6303960" y="1984320"/>
              <a:ext cx="2284560" cy="15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8" descr="523-524 proveri u atlasu da li su te"/>
            <p:cNvPicPr/>
            <p:nvPr/>
          </p:nvPicPr>
          <p:blipFill>
            <a:blip r:embed="rId3"/>
            <a:stretch/>
          </p:blipFill>
          <p:spPr>
            <a:xfrm>
              <a:off x="6307200" y="3581280"/>
              <a:ext cx="2281320" cy="312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Group 19"/>
          <p:cNvGrpSpPr/>
          <p:nvPr/>
        </p:nvGrpSpPr>
        <p:grpSpPr>
          <a:xfrm>
            <a:off x="1752480" y="1981080"/>
            <a:ext cx="4038480" cy="459720"/>
            <a:chOff x="1752480" y="1981080"/>
            <a:chExt cx="4038480" cy="459720"/>
          </a:xfrm>
        </p:grpSpPr>
        <p:sp>
          <p:nvSpPr>
            <p:cNvPr id="399" name="AutoShape 20"/>
            <p:cNvSpPr/>
            <p:nvPr/>
          </p:nvSpPr>
          <p:spPr>
            <a:xfrm>
              <a:off x="1752480" y="1981080"/>
              <a:ext cx="4038480" cy="457200"/>
            </a:xfrm>
            <a:prstGeom prst="bevel">
              <a:avLst>
                <a:gd name="adj" fmla="val 2977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1"/>
            <p:cNvSpPr/>
            <p:nvPr/>
          </p:nvSpPr>
          <p:spPr>
            <a:xfrm>
              <a:off x="1752480" y="1981080"/>
              <a:ext cx="39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Arial Narrow"/>
                </a:rPr>
                <a:t>ИМПЛАНТА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3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7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1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0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0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Rectangle 9"/>
          <p:cNvSpPr/>
          <p:nvPr/>
        </p:nvSpPr>
        <p:spPr>
          <a:xfrm>
            <a:off x="1752480" y="1905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икатризациј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хируршких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јчешћ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ормир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у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пителн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пој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суств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понта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шта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лига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е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Ћелије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епителног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порекл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еом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рз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игрирај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пикалн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кривајућ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нутрашњ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вршин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жњ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немогућавајућ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пајањ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их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лака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ск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врши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Ћелије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везивног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порекл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пор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лифериш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пителних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нтакт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ск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вршин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ез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е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вод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ск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сорпц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Ћелије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коштаног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порекл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јспор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в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звој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 </a:t>
            </a:r>
            <a:br>
              <a:rPr sz="2000"/>
            </a:b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нтакт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ск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вршин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ез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е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их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лака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вод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енск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сорпц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нкилоз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Ћелије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периодонталног</a:t>
            </a:r>
            <a:r>
              <a:rPr b="0" lang="en-U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лига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ди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мај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пособност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ференцијаци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тварањ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емент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шта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их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лака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0"/>
          <p:cNvGrpSpPr/>
          <p:nvPr/>
        </p:nvGrpSpPr>
        <p:grpSpPr>
          <a:xfrm>
            <a:off x="1752480" y="0"/>
            <a:ext cx="7086600" cy="1371600"/>
            <a:chOff x="1752480" y="0"/>
            <a:chExt cx="7086600" cy="1371600"/>
          </a:xfrm>
        </p:grpSpPr>
        <p:sp>
          <p:nvSpPr>
            <p:cNvPr id="410" name="AutoShape 11"/>
            <p:cNvSpPr/>
            <p:nvPr/>
          </p:nvSpPr>
          <p:spPr>
            <a:xfrm>
              <a:off x="1752480" y="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1914480" y="3808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ВОЂ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ГЕНЕ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КИВ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14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7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8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1752480" y="1905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ступак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ист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згубље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ок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олест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ође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азир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мен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мбранск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аријер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“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фекат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аве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”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золу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ефект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ингивал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пител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езивног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озвољавајућ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бновљен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ом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лигамент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пој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вршин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ист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ересорптив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сорптив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стал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мбра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в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мбра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истил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ересорптив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1982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оди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)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а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шт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Polytetrafluorethylene (PTFE).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анас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ист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сорптив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мбране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о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: Bio-Guide, Bio-Mend, Allo-Derm, Atrisorb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421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ВОЂЕ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ГЕНЕ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КИВ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13" descr="188"/>
          <p:cNvPicPr/>
          <p:nvPr/>
        </p:nvPicPr>
        <p:blipFill>
          <a:blip r:embed="rId2"/>
          <a:stretch/>
        </p:blipFill>
        <p:spPr>
          <a:xfrm>
            <a:off x="7010280" y="1905120"/>
            <a:ext cx="181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25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9"/>
          <p:cNvSpPr/>
          <p:nvPr/>
        </p:nvSpPr>
        <p:spPr>
          <a:xfrm>
            <a:off x="1752480" y="19051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Активн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регенерациј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применом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биолошог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концепт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биомиметике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биомимикрије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Основа</a:t>
            </a:r>
            <a:r>
              <a:rPr b="0" lang="sr-Latn-C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концепта</a:t>
            </a:r>
            <a:r>
              <a:rPr b="0" lang="sr-Latn-C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биомиметик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потреб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теин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кстрацелуларног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атрикс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мај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ктивн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лог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)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тимулаци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зарастањ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родонталн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н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)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ктивној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ормирањем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овог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цемен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ериодонталног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лигамен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лволарн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ст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осиоц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теин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леђ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: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мелогенин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мелин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мелобластин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)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намелин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теаз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теин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леђ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куј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блик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гел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д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зивом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Емдогаин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0"/>
          <p:cNvGrpSpPr/>
          <p:nvPr/>
        </p:nvGrpSpPr>
        <p:grpSpPr>
          <a:xfrm>
            <a:off x="1676520" y="228600"/>
            <a:ext cx="7086600" cy="1371600"/>
            <a:chOff x="1676520" y="228600"/>
            <a:chExt cx="7086600" cy="1371600"/>
          </a:xfrm>
        </p:grpSpPr>
        <p:sp>
          <p:nvSpPr>
            <p:cNvPr id="433" name="AutoShape 11"/>
            <p:cNvSpPr/>
            <p:nvPr/>
          </p:nvSpPr>
          <p:spPr>
            <a:xfrm>
              <a:off x="167652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183852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К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ГЕНЕ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АРОДОНТАЛНИХ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КИВ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36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37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0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1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9"/>
          <p:cNvSpPr/>
          <p:nvPr/>
        </p:nvSpPr>
        <p:spPr>
          <a:xfrm>
            <a:off x="1752480" y="251460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Активн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регенерациј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применом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”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ткивног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CS" sz="2000" spc="-1" strike="noStrike">
                <a:solidFill>
                  <a:srgbClr val="333399"/>
                </a:solidFill>
                <a:latin typeface="Arial Narrow"/>
              </a:rPr>
              <a:t>инжињеринга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Основни</a:t>
            </a:r>
            <a:r>
              <a:rPr b="0" lang="sr-Latn-C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принцип</a:t>
            </a:r>
            <a:r>
              <a:rPr b="0" lang="sr-Latn-C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ткивног</a:t>
            </a:r>
            <a:r>
              <a:rPr b="0" lang="sr-Latn-CS" sz="2000" spc="-1" strike="noStrike">
                <a:solidFill>
                  <a:srgbClr val="339966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9966"/>
                </a:solidFill>
                <a:latin typeface="Arial Narrow"/>
              </a:rPr>
              <a:t>инжињеринг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ришћењ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: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-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атрикс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гениторних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актор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ријад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липептидн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актор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иродн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биолошк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осредниц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улиш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руцијалн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ск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цес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кључен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ао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што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: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НК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интез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етаболичк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активност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играциј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хемотакс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ролиферациј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иференцијациј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интез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матрикс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актор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ск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пецифичн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јер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вак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актор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делује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одређен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врст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ћелиј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0"/>
          <p:cNvGrpSpPr/>
          <p:nvPr/>
        </p:nvGrpSpPr>
        <p:grpSpPr>
          <a:xfrm>
            <a:off x="1676520" y="228600"/>
            <a:ext cx="7086600" cy="1371600"/>
            <a:chOff x="1676520" y="228600"/>
            <a:chExt cx="7086600" cy="1371600"/>
          </a:xfrm>
        </p:grpSpPr>
        <p:sp>
          <p:nvSpPr>
            <p:cNvPr id="444" name="AutoShape 11"/>
            <p:cNvSpPr/>
            <p:nvPr/>
          </p:nvSpPr>
          <p:spPr>
            <a:xfrm>
              <a:off x="167652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83852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К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ГЕНЕ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АРОДОНТАЛНИХ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КИВ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447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448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1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2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9"/>
          <p:cNvSpPr/>
          <p:nvPr/>
        </p:nvSpPr>
        <p:spPr>
          <a:xfrm>
            <a:off x="1752480" y="1905120"/>
            <a:ext cx="708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0"/>
          <p:cNvGrpSpPr/>
          <p:nvPr/>
        </p:nvGrpSpPr>
        <p:grpSpPr>
          <a:xfrm>
            <a:off x="1676520" y="228600"/>
            <a:ext cx="7086600" cy="1371600"/>
            <a:chOff x="1676520" y="228600"/>
            <a:chExt cx="7086600" cy="1371600"/>
          </a:xfrm>
        </p:grpSpPr>
        <p:sp>
          <p:nvSpPr>
            <p:cNvPr id="455" name="AutoShape 11"/>
            <p:cNvSpPr/>
            <p:nvPr/>
          </p:nvSpPr>
          <p:spPr>
            <a:xfrm>
              <a:off x="167652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2"/>
            <p:cNvSpPr/>
            <p:nvPr/>
          </p:nvSpPr>
          <p:spPr>
            <a:xfrm>
              <a:off x="183852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КТИВН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ГЕНЕРАЦИЈА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АРОДОНТАЛНИХ</a:t>
              </a:r>
              <a:r>
                <a:rPr b="0" lang="en-US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ТКИВ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13"/>
          <p:cNvSpPr/>
          <p:nvPr/>
        </p:nvSpPr>
        <p:spPr>
          <a:xfrm>
            <a:off x="1676520" y="1981080"/>
            <a:ext cx="70866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Најзначајни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фактор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аст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чествуј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регенерацији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000" spc="-1" strike="noStrike">
                <a:solidFill>
                  <a:srgbClr val="333399"/>
                </a:solidFill>
                <a:latin typeface="Arial Narrow"/>
              </a:rPr>
              <a:t>су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1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</a:rPr>
              <a:t>Trombocitni faktor rasta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– PD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2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</a:rPr>
              <a:t>Transformacioni faktor rasta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 – TGF</a:t>
            </a:r>
            <a:r>
              <a:rPr b="0" lang="el-GR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1 i 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</a:rPr>
              <a:t>TGF</a:t>
            </a:r>
            <a:r>
              <a:rPr b="0" lang="el-GR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3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aktor rasta sličan insulinu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– I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4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Fibroblastni faktor rasta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– F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5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Epidermoidni faktor ra</a:t>
            </a:r>
            <a:r>
              <a:rPr b="1" i="1" lang="en-U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s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ta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– E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6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Osteogeni protein 1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– BMP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7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Koštani morfogenetski protein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 – BMP-2, BMP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8. </a:t>
            </a:r>
            <a:r>
              <a:rPr b="1" i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Angiogenetski faktori rasta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84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1752480" y="228600"/>
            <a:ext cx="8610480" cy="1371600"/>
            <a:chOff x="1752480" y="228600"/>
            <a:chExt cx="8610480" cy="1371600"/>
          </a:xfrm>
        </p:grpSpPr>
        <p:sp>
          <p:nvSpPr>
            <p:cNvPr id="90" name="AutoShape 10"/>
            <p:cNvSpPr/>
            <p:nvPr/>
          </p:nvSpPr>
          <p:spPr>
            <a:xfrm>
              <a:off x="1752480" y="228600"/>
              <a:ext cx="861048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1949040" y="609480"/>
              <a:ext cx="822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ГИНГИВЕКТОМИЈ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СА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ГИНГИВОПЛАСТИКО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2"/>
          <p:cNvSpPr/>
          <p:nvPr/>
        </p:nvSpPr>
        <p:spPr>
          <a:xfrm>
            <a:off x="1905120" y="21337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в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хируршк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цедур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стрању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к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џеп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гу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зглед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ункциј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ндикова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д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лиферац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зив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фиброматоз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упракошта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џепо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протетск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одуж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линичк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ру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ктивних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хват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2286000" y="4114800"/>
            <a:ext cx="6019920" cy="1959120"/>
            <a:chOff x="2286000" y="4114800"/>
            <a:chExt cx="6019920" cy="1959120"/>
          </a:xfrm>
        </p:grpSpPr>
        <p:pic>
          <p:nvPicPr>
            <p:cNvPr id="94" name="Picture 14" descr="408"/>
            <p:cNvPicPr/>
            <p:nvPr/>
          </p:nvPicPr>
          <p:blipFill>
            <a:blip r:embed="rId2"/>
            <a:stretch/>
          </p:blipFill>
          <p:spPr>
            <a:xfrm>
              <a:off x="2286000" y="4114800"/>
              <a:ext cx="296712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5" descr="429"/>
            <p:cNvPicPr/>
            <p:nvPr/>
          </p:nvPicPr>
          <p:blipFill>
            <a:blip r:embed="rId3"/>
            <a:stretch/>
          </p:blipFill>
          <p:spPr>
            <a:xfrm>
              <a:off x="5334120" y="4114800"/>
              <a:ext cx="2971800" cy="195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9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104" name="AutoShape 10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1914480" y="380880"/>
              <a:ext cx="6772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Л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br>
                <a:rPr sz="3000"/>
              </a:b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ФЛАП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ОПЕРАЦИЈ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2"/>
          <p:cNvSpPr/>
          <p:nvPr/>
        </p:nvSpPr>
        <p:spPr>
          <a:xfrm>
            <a:off x="2209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Kuster i Partsch    19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Neuman                19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Leonard Widman  19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Ramfjord               1973 – Modifikovan Vid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2209680" y="4800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8080"/>
                </a:solidFill>
                <a:latin typeface="Arial Narrow"/>
              </a:rPr>
              <a:t>1. 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репозициониран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 (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репониран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)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-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одификова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идма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2. 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позиционира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 –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сл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иза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ављ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о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азличит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ложа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1752480" y="4419720"/>
            <a:ext cx="7086600" cy="380880"/>
            <a:chOff x="1752480" y="4419720"/>
            <a:chExt cx="7086600" cy="380880"/>
          </a:xfrm>
        </p:grpSpPr>
        <p:sp>
          <p:nvSpPr>
            <p:cNvPr id="109" name="AutoShape 15"/>
            <p:cNvSpPr/>
            <p:nvPr/>
          </p:nvSpPr>
          <p:spPr>
            <a:xfrm>
              <a:off x="1752480" y="4419720"/>
              <a:ext cx="708660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2209680" y="4419720"/>
              <a:ext cx="647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Прем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положају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може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бити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7"/>
          <p:cNvSpPr/>
          <p:nvPr/>
        </p:nvSpPr>
        <p:spPr>
          <a:xfrm>
            <a:off x="2209680" y="3657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полудебљи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-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укоз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епител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е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везив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50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пуне</a:t>
            </a:r>
            <a:r>
              <a:rPr b="0" lang="en-GB" sz="2200" spc="-1" strike="noStrike">
                <a:solidFill>
                  <a:srgbClr val="008080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008080"/>
                </a:solidFill>
                <a:latin typeface="Arial Narrow"/>
              </a:rPr>
              <a:t>дебљи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-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укоз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+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ери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1752480" y="3276720"/>
            <a:ext cx="7086600" cy="380880"/>
            <a:chOff x="1752480" y="3276720"/>
            <a:chExt cx="7086600" cy="380880"/>
          </a:xfrm>
        </p:grpSpPr>
        <p:sp>
          <p:nvSpPr>
            <p:cNvPr id="113" name="AutoShape 19"/>
            <p:cNvSpPr/>
            <p:nvPr/>
          </p:nvSpPr>
          <p:spPr>
            <a:xfrm>
              <a:off x="1752480" y="3276720"/>
              <a:ext cx="708660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2209680" y="3276720"/>
              <a:ext cx="647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Према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дебљини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може</a:t>
              </a:r>
              <a:r>
                <a:rPr b="0" lang="en-GB" sz="22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би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1"/>
          <p:cNvSpPr/>
          <p:nvPr/>
        </p:nvSpPr>
        <p:spPr>
          <a:xfrm>
            <a:off x="2514600" y="5867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пикал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е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онар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е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6019920" y="58672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атерал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е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пи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118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119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1752480" y="533520"/>
            <a:ext cx="7086600" cy="609480"/>
            <a:chOff x="1752480" y="533520"/>
            <a:chExt cx="7086600" cy="609480"/>
          </a:xfrm>
        </p:grpSpPr>
        <p:sp>
          <p:nvSpPr>
            <p:cNvPr id="125" name="AutoShape 10"/>
            <p:cNvSpPr/>
            <p:nvPr/>
          </p:nvSpPr>
          <p:spPr>
            <a:xfrm>
              <a:off x="1752480" y="533520"/>
              <a:ext cx="7086600" cy="60948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1914480" y="53352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операциј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2"/>
          <p:cNvSpPr/>
          <p:nvPr/>
        </p:nvSpPr>
        <p:spPr>
          <a:xfrm>
            <a:off x="1752480" y="19810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1.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Лече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дубок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упракошта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нфракошта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џеп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2.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бацив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мплантат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нфракоштан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талн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џепов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стал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ранспланта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3.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д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хемисекциј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ампутациј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бисекциј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зуб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 Narrow"/>
              </a:rPr>
              <a:t>4.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ерапи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талног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абсце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5. 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епротетск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ипрем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цијен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76520" y="4191120"/>
            <a:ext cx="7238880" cy="2286000"/>
            <a:chOff x="1676520" y="4191120"/>
            <a:chExt cx="7238880" cy="2286000"/>
          </a:xfrm>
        </p:grpSpPr>
        <p:pic>
          <p:nvPicPr>
            <p:cNvPr id="129" name="Picture 14" descr="470"/>
            <p:cNvPicPr/>
            <p:nvPr/>
          </p:nvPicPr>
          <p:blipFill>
            <a:blip r:embed="rId2"/>
            <a:stretch/>
          </p:blipFill>
          <p:spPr>
            <a:xfrm>
              <a:off x="1676520" y="4191120"/>
              <a:ext cx="251748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5" descr="476"/>
            <p:cNvPicPr/>
            <p:nvPr/>
          </p:nvPicPr>
          <p:blipFill>
            <a:blip r:embed="rId3"/>
            <a:stretch/>
          </p:blipFill>
          <p:spPr>
            <a:xfrm>
              <a:off x="4191120" y="4191120"/>
              <a:ext cx="25146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6" descr="479"/>
            <p:cNvPicPr/>
            <p:nvPr/>
          </p:nvPicPr>
          <p:blipFill>
            <a:blip r:embed="rId4"/>
            <a:stretch/>
          </p:blipFill>
          <p:spPr>
            <a:xfrm>
              <a:off x="1676520" y="5391000"/>
              <a:ext cx="25174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7" descr="484"/>
            <p:cNvPicPr/>
            <p:nvPr/>
          </p:nvPicPr>
          <p:blipFill>
            <a:blip r:embed="rId5"/>
            <a:stretch/>
          </p:blipFill>
          <p:spPr>
            <a:xfrm>
              <a:off x="5029200" y="5391000"/>
              <a:ext cx="16527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8" descr="318"/>
            <p:cNvPicPr/>
            <p:nvPr/>
          </p:nvPicPr>
          <p:blipFill>
            <a:blip r:embed="rId6"/>
            <a:stretch/>
          </p:blipFill>
          <p:spPr>
            <a:xfrm>
              <a:off x="6775560" y="4191120"/>
              <a:ext cx="2139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9" descr="319"/>
            <p:cNvPicPr/>
            <p:nvPr/>
          </p:nvPicPr>
          <p:blipFill>
            <a:blip r:embed="rId7"/>
            <a:stretch/>
          </p:blipFill>
          <p:spPr>
            <a:xfrm>
              <a:off x="6781680" y="5334120"/>
              <a:ext cx="21337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136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1600200" y="228600"/>
            <a:ext cx="7086600" cy="1371600"/>
            <a:chOff x="1600200" y="228600"/>
            <a:chExt cx="7086600" cy="1371600"/>
          </a:xfrm>
        </p:grpSpPr>
        <p:sp>
          <p:nvSpPr>
            <p:cNvPr id="143" name="AutoShape 10"/>
            <p:cNvSpPr/>
            <p:nvPr/>
          </p:nvSpPr>
          <p:spPr>
            <a:xfrm>
              <a:off x="160020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1762200" y="380880"/>
              <a:ext cx="677232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АПИКАЛНО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ОМЕРЕН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br>
                <a:rPr sz="3000"/>
              </a:br>
              <a:r>
                <a:rPr b="0" lang="en-GB" sz="2600" spc="-1" strike="noStrike">
                  <a:solidFill>
                    <a:srgbClr val="0000cc"/>
                  </a:solidFill>
                  <a:latin typeface="Arial Narrow"/>
                </a:rPr>
                <a:t>Naber i Fridman 195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2"/>
          <p:cNvSpPr/>
          <p:nvPr/>
        </p:nvSpPr>
        <p:spPr>
          <a:xfrm>
            <a:off x="175248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апикалн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нос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вобит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ложај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752480" y="3581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одстрање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родонтал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џепов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супракоштаног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нфракоштаног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тип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достиж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мукогингивалн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линиј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,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л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ду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еко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ошире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ипојн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одубљив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вестибулу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омерање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рипој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френулум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100"/>
            </a:b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латералних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100" spc="-1" strike="noStrike">
                <a:solidFill>
                  <a:srgbClr val="333399"/>
                </a:solidFill>
                <a:latin typeface="Arial Narrow"/>
              </a:rPr>
              <a:t>папила</a:t>
            </a:r>
            <a:r>
              <a:rPr b="0" lang="en-GB" sz="21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4"/>
          <p:cNvGrpSpPr/>
          <p:nvPr/>
        </p:nvGrpSpPr>
        <p:grpSpPr>
          <a:xfrm>
            <a:off x="1752480" y="3124080"/>
            <a:ext cx="3810240" cy="380880"/>
            <a:chOff x="1752480" y="3124080"/>
            <a:chExt cx="3810240" cy="380880"/>
          </a:xfrm>
        </p:grpSpPr>
        <p:sp>
          <p:nvSpPr>
            <p:cNvPr id="148" name="AutoShape 15"/>
            <p:cNvSpPr/>
            <p:nvPr/>
          </p:nvSpPr>
          <p:spPr>
            <a:xfrm>
              <a:off x="1752480" y="3124080"/>
              <a:ext cx="3810240" cy="380880"/>
            </a:xfrm>
            <a:prstGeom prst="bevel">
              <a:avLst>
                <a:gd name="adj" fmla="val 2921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1998000" y="3124080"/>
              <a:ext cx="3482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200" spc="-1" strike="noStrike">
                  <a:solidFill>
                    <a:srgbClr val="0000cc"/>
                  </a:solidFill>
                  <a:latin typeface="Arial Narrow"/>
                </a:rPr>
                <a:t>Индика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17" descr="105"/>
          <p:cNvPicPr/>
          <p:nvPr/>
        </p:nvPicPr>
        <p:blipFill>
          <a:blip r:embed="rId2"/>
          <a:stretch/>
        </p:blipFill>
        <p:spPr>
          <a:xfrm>
            <a:off x="6324480" y="1981080"/>
            <a:ext cx="2297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152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153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9"/>
          <p:cNvSpPr/>
          <p:nvPr/>
        </p:nvSpPr>
        <p:spPr>
          <a:xfrm>
            <a:off x="1828800" y="19810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ањ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онарно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мер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циље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дстра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тал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џепов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стиг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пој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шин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ј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лиће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160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КОРОНАРНО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ОМЕРЕН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13" descr="106"/>
          <p:cNvPicPr/>
          <p:nvPr/>
        </p:nvPicPr>
        <p:blipFill>
          <a:blip r:embed="rId2"/>
          <a:stretch/>
        </p:blipFill>
        <p:spPr>
          <a:xfrm>
            <a:off x="4114800" y="304812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149400"/>
            <a:ext cx="9372600" cy="6860520"/>
            <a:chOff x="0" y="149400"/>
            <a:chExt cx="9372600" cy="6860520"/>
          </a:xfrm>
        </p:grpSpPr>
        <p:grpSp>
          <p:nvGrpSpPr>
            <p:cNvPr id="164" name="Group 3"/>
            <p:cNvGrpSpPr/>
            <p:nvPr/>
          </p:nvGrpSpPr>
          <p:grpSpPr>
            <a:xfrm>
              <a:off x="0" y="149400"/>
              <a:ext cx="9144000" cy="6860520"/>
              <a:chOff x="0" y="149400"/>
              <a:chExt cx="9144000" cy="6860520"/>
            </a:xfrm>
          </p:grpSpPr>
          <p:sp>
            <p:nvSpPr>
              <p:cNvPr id="165" name="AutoShape 4"/>
              <p:cNvSpPr/>
              <p:nvPr/>
            </p:nvSpPr>
            <p:spPr>
              <a:xfrm>
                <a:off x="1447920" y="149400"/>
                <a:ext cx="7696080" cy="685764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5"/>
              <p:cNvSpPr/>
              <p:nvPr/>
            </p:nvSpPr>
            <p:spPr>
              <a:xfrm>
                <a:off x="0" y="149400"/>
                <a:ext cx="1447920" cy="182844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6"/>
              <p:cNvSpPr/>
              <p:nvPr/>
            </p:nvSpPr>
            <p:spPr>
              <a:xfrm>
                <a:off x="0" y="1977840"/>
                <a:ext cx="1447920" cy="503208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25360"/>
                <a:ext cx="1009800" cy="167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Rectangle 8"/>
            <p:cNvSpPr/>
            <p:nvPr/>
          </p:nvSpPr>
          <p:spPr>
            <a:xfrm>
              <a:off x="1447920" y="1969920"/>
              <a:ext cx="7924680" cy="7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9"/>
          <p:cNvSpPr/>
          <p:nvPr/>
        </p:nvSpPr>
        <p:spPr>
          <a:xfrm>
            <a:off x="1905120" y="2209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1001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ехник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атерал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е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мењу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б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лач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гингив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рочит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дњи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и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лаз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лиће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о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1752480" y="228600"/>
            <a:ext cx="7086600" cy="1371600"/>
            <a:chOff x="1752480" y="228600"/>
            <a:chExt cx="7086600" cy="1371600"/>
          </a:xfrm>
        </p:grpSpPr>
        <p:sp>
          <p:nvSpPr>
            <p:cNvPr id="172" name="AutoShape 11"/>
            <p:cNvSpPr/>
            <p:nvPr/>
          </p:nvSpPr>
          <p:spPr>
            <a:xfrm>
              <a:off x="175248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ЛАТЕРАЛНО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ОМЕРЕНИ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13" descr="107"/>
          <p:cNvPicPr/>
          <p:nvPr/>
        </p:nvPicPr>
        <p:blipFill>
          <a:blip r:embed="rId2"/>
          <a:srcRect l="0" t="0" r="0" b="50007"/>
          <a:stretch/>
        </p:blipFill>
        <p:spPr>
          <a:xfrm>
            <a:off x="6049800" y="2341440"/>
            <a:ext cx="2789280" cy="177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07"/>
          <p:cNvPicPr/>
          <p:nvPr/>
        </p:nvPicPr>
        <p:blipFill>
          <a:blip r:embed="rId3"/>
          <a:srcRect l="0" t="50007" r="0" b="0"/>
          <a:stretch/>
        </p:blipFill>
        <p:spPr>
          <a:xfrm>
            <a:off x="6019920" y="4572000"/>
            <a:ext cx="2789280" cy="1773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5"/>
          <p:cNvSpPr/>
          <p:nvPr/>
        </p:nvSpPr>
        <p:spPr>
          <a:xfrm>
            <a:off x="1905120" y="4495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лић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ши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кр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њем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из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гио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усед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372600" cy="6861240"/>
            <a:chOff x="0" y="0"/>
            <a:chExt cx="9372600" cy="6861240"/>
          </a:xfrm>
        </p:grpSpPr>
        <p:grpSp>
          <p:nvGrpSpPr>
            <p:cNvPr id="178" name="Group 3"/>
            <p:cNvGrpSpPr/>
            <p:nvPr/>
          </p:nvGrpSpPr>
          <p:grpSpPr>
            <a:xfrm>
              <a:off x="0" y="0"/>
              <a:ext cx="9144000" cy="6861240"/>
              <a:chOff x="0" y="0"/>
              <a:chExt cx="9144000" cy="6861240"/>
            </a:xfrm>
          </p:grpSpPr>
          <p:sp>
            <p:nvSpPr>
              <p:cNvPr id="179" name="AutoShape 4"/>
              <p:cNvSpPr/>
              <p:nvPr/>
            </p:nvSpPr>
            <p:spPr>
              <a:xfrm>
                <a:off x="1447920" y="0"/>
                <a:ext cx="7696080" cy="6858000"/>
              </a:xfrm>
              <a:prstGeom prst="bevel">
                <a:avLst>
                  <a:gd name="adj" fmla="val 741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5"/>
              <p:cNvSpPr/>
              <p:nvPr/>
            </p:nvSpPr>
            <p:spPr>
              <a:xfrm>
                <a:off x="0" y="0"/>
                <a:ext cx="1447920" cy="1828800"/>
              </a:xfrm>
              <a:prstGeom prst="bevel">
                <a:avLst>
                  <a:gd name="adj" fmla="val 2977"/>
                </a:avLst>
              </a:prstGeom>
              <a:solidFill>
                <a:srgbClr val="b4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6"/>
              <p:cNvSpPr/>
              <p:nvPr/>
            </p:nvSpPr>
            <p:spPr>
              <a:xfrm>
                <a:off x="0" y="1828800"/>
                <a:ext cx="1447920" cy="5032440"/>
              </a:xfrm>
              <a:prstGeom prst="bevel">
                <a:avLst>
                  <a:gd name="adj" fmla="val 2977"/>
                </a:avLst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7" descr="dentist"/>
              <p:cNvPicPr/>
              <p:nvPr/>
            </p:nvPicPr>
            <p:blipFill>
              <a:blip r:embed="rId1"/>
              <a:stretch/>
            </p:blipFill>
            <p:spPr>
              <a:xfrm>
                <a:off x="228600" y="76320"/>
                <a:ext cx="1009800" cy="16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Rectangle 8"/>
            <p:cNvSpPr/>
            <p:nvPr/>
          </p:nvSpPr>
          <p:spPr>
            <a:xfrm>
              <a:off x="1447920" y="1820880"/>
              <a:ext cx="7924680" cy="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9"/>
          <p:cNvSpPr/>
          <p:nvPr/>
        </p:nvSpPr>
        <p:spPr>
          <a:xfrm>
            <a:off x="1676520" y="22096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ист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екрива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лиће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врши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уб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499"/>
              </a:spcAft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н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алаз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римен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у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лучајеви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ад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ткив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ародонцијум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дистал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и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мезијал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стран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оголићеног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корен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,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ниј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год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з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латерално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померање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sr-CS" sz="2200" spc="-1" strike="noStrike">
                <a:solidFill>
                  <a:srgbClr val="333399"/>
                </a:solidFill>
                <a:latin typeface="Arial Narrow"/>
              </a:rPr>
              <a:t>режња</a:t>
            </a:r>
            <a:r>
              <a:rPr b="0" lang="en-GB" sz="22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1600200" y="228600"/>
            <a:ext cx="7086600" cy="1371600"/>
            <a:chOff x="1600200" y="228600"/>
            <a:chExt cx="7086600" cy="1371600"/>
          </a:xfrm>
        </p:grpSpPr>
        <p:sp>
          <p:nvSpPr>
            <p:cNvPr id="186" name="AutoShape 11"/>
            <p:cNvSpPr/>
            <p:nvPr/>
          </p:nvSpPr>
          <p:spPr>
            <a:xfrm>
              <a:off x="1600200" y="228600"/>
              <a:ext cx="7086600" cy="1371600"/>
            </a:xfrm>
            <a:prstGeom prst="bevel">
              <a:avLst>
                <a:gd name="adj" fmla="val 297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1914480" y="609480"/>
              <a:ext cx="6772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РЕЖАЊ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ДУПЛЕ</a:t>
              </a:r>
              <a:r>
                <a:rPr b="0" lang="en-GB" sz="30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r>
                <a:rPr b="0" lang="sr-CS" sz="3000" spc="-1" strike="noStrike">
                  <a:solidFill>
                    <a:srgbClr val="0000cc"/>
                  </a:solidFill>
                  <a:latin typeface="Arial Narrow"/>
                </a:rPr>
                <a:t>ПАПИЛ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5029200" y="2666880"/>
            <a:ext cx="3753000" cy="3465360"/>
            <a:chOff x="5029200" y="2666880"/>
            <a:chExt cx="3753000" cy="3465360"/>
          </a:xfrm>
        </p:grpSpPr>
        <p:pic>
          <p:nvPicPr>
            <p:cNvPr id="189" name="Picture 14" descr="302"/>
            <p:cNvPicPr/>
            <p:nvPr/>
          </p:nvPicPr>
          <p:blipFill>
            <a:blip r:embed="rId2"/>
            <a:stretch/>
          </p:blipFill>
          <p:spPr>
            <a:xfrm>
              <a:off x="5029200" y="2666880"/>
              <a:ext cx="23414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5" descr="305"/>
            <p:cNvPicPr/>
            <p:nvPr/>
          </p:nvPicPr>
          <p:blipFill>
            <a:blip r:embed="rId3"/>
            <a:stretch/>
          </p:blipFill>
          <p:spPr>
            <a:xfrm>
              <a:off x="7543800" y="4419360"/>
              <a:ext cx="1238400" cy="171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27:21Z</dcterms:created>
  <dc:creator>Nikola Kojovic</dc:creator>
  <dc:description/>
  <dc:language>en-US</dc:language>
  <cp:lastModifiedBy>Corporate Edition</cp:lastModifiedBy>
  <dcterms:modified xsi:type="dcterms:W3CDTF">2015-03-13T09:43:16Z</dcterms:modified>
  <cp:revision>3</cp:revision>
  <dc:subject/>
  <dc:title>Slide 1</dc:title>
</cp:coreProperties>
</file>